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378-9C0A-4E8E-868E-8C588178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8E8-CE11-4105-BF2B-B07FCE01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FA8-7516-4CD1-99CE-32158FF0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226-4897-4692-98E2-6C25281C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FB638-9548-427F-A095-93EA247D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4B37F-9BE7-4359-9E6F-4A2DC522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5250C-EF0C-4648-991D-D4BAA7C7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EB7BB-6AD9-4AFB-A2DC-03A1658E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17ED9-C7EA-462D-9617-9F8DEB7D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FE1D7-2C65-4A06-8D5C-B2AD477A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42BA9-EF5C-43FC-998C-07FFB7BF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136-6712-430E-8151-88845083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426BD-07B0-44BC-AEEF-0BB15C95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F1B92-2764-4C84-A0D3-BEBF5383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35923-40BE-4F2E-ABF9-3357ECB9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38F04-5B2D-4359-9423-B6B43F76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4E71D-381D-4C0C-B8F9-42EB73BB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A86-8F2D-4FB6-97A6-A940C0B2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087-2556-459E-83BE-39821DF1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52A-56BA-46A6-A8C5-AC03C27D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105-1138-4FF2-80D9-ACFF283B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5051-FB58-4DBA-8720-B62BE2BB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50BB-3847-4317-8A01-5F26B15C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4E3-238E-44FC-8871-1837D35D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212D-35CD-446C-AC3F-32D31D9891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4B92-B677-4F0D-870A-162E50AD7C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ема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ачественная и количественная характеристики объектов недвижим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Качество местоположения недвижимости (Ситус)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ана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916280"/>
            <a:ext cx="7417080" cy="338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421000"/>
            <a:ext cx="6696000" cy="2448000"/>
          </a:xfrm>
          <a:prstGeom prst="ellipse">
            <a:avLst/>
          </a:prstGeom>
          <a:solidFill>
            <a:srgbClr val="3399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852640"/>
            <a:ext cx="5256360" cy="1513080"/>
          </a:xfrm>
          <a:prstGeom prst="ellipse">
            <a:avLst/>
          </a:prstGeom>
          <a:solidFill>
            <a:srgbClr val="3399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3284640"/>
            <a:ext cx="2808360" cy="57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33577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вижи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1989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оргов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2492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мыкающие терри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292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ижайшие окрес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557360"/>
            <a:ext cx="8208720" cy="43196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5229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ИТУ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ЗУЛЬТАТ ВЗАИМОДЕЙСТВИЯ КОНКРЕТНОГО ВАРИАНТА ЗЕМЛЕПОЛЬЗОВАНИЯ И ЭКОНОМИЧЕСКОЙ СРЕДЫ НА ПЯТИ УРОВНЯХ (СТРАНА, РЕГИОН, ТОРГОВАЯ ЗОНА, ПРИМЫКАЮЩИЕ И БЛИЖАЙШИЕ ТЕРРИТОРИ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нешняя среда недвижим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213000"/>
            <a:ext cx="1871640" cy="1152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движим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989000"/>
            <a:ext cx="251964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ит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ту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3284640"/>
            <a:ext cx="201636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изость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в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4221000"/>
            <a:ext cx="201636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ич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5084640"/>
            <a:ext cx="201636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1557360"/>
            <a:ext cx="259236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родные усло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1916280"/>
            <a:ext cx="237672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рос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лож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2924280"/>
            <a:ext cx="1728720" cy="93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стоя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 рын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бы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4076640"/>
            <a:ext cx="172872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ич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5157720"/>
            <a:ext cx="2232000" cy="71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м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ре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5516640"/>
            <a:ext cx="2303640" cy="936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змож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феры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24360" y="328428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4076640"/>
            <a:ext cx="93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59280" y="2492280"/>
            <a:ext cx="12970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716360" y="2421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059280" y="2565000"/>
            <a:ext cx="14414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843280" y="3500280"/>
            <a:ext cx="936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4076640"/>
            <a:ext cx="936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42920" y="4365720"/>
            <a:ext cx="1584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436572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4365720"/>
            <a:ext cx="12970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требительские свойства земельных участ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емельный участ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часть поверхности земли, имеющая четко обозначенную границу, площадь, местоположение, правовой статус и другие характеристики, учитываемые в государственном земельном кадастре и Едином государственном реестре прав на недвижимое имущество и сделок с ним. Бывают делимыми и неделим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Делимый земельный участ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читается такой участок, который может быть разделен на части, каждая из которых после раздела по своему размеру образует самостоятельный участок с прежним целевым назначением и разрешенным использов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адастровый номер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362440" cy="4103640"/>
        </p:xfrm>
        <a:graphic>
          <a:graphicData uri="http://schemas.openxmlformats.org/drawingml/2006/table">
            <a:tbl>
              <a:tblPr/>
              <a:tblGrid>
                <a:gridCol w="1252800"/>
                <a:gridCol w="3783600"/>
                <a:gridCol w="33260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1х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бъект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бъект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3х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министративный рай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льская администр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й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е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масс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кварт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кварт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8х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ельный учас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ельный учас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писание земельного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5172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субъекта права - Адрес, документы удостоверяющие субъекта и его реквиз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ресные ориентиры - Жилой массив, поселок, улица и номер до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кументы , устанавливающие землепользование ( Постановление, свидетельство, договор – аренды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тегория земель - Целевое назначение и фактическое использ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классификатора зем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 по документам, в том числе постороннего 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 санитарно-защитной зоны и (или) зоны с особым режимом использования в пределах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земельного права (собственность, временное пользование…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верхностный и подпочвенный слой, ландшафт, топограф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лучшения и инженерное обустрой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аспорт земельного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спликация зем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р земельного налога или арендной пла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ыночная и расчетная стоимость уча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алансовая стоимость строений и сооружений на участ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ая стоимость (стр.3+стр.4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лог на недвижим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женерно-технические характерист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ологические показа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радостроительные характерист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лежи полезных ископаем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тегории земель по потребительским свойствам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95280" y="1600200"/>
          <a:ext cx="8424720" cy="5213520"/>
        </p:xfrm>
        <a:graphic>
          <a:graphicData uri="http://schemas.openxmlformats.org/drawingml/2006/table">
            <a:tbl>
              <a:tblPr/>
              <a:tblGrid>
                <a:gridCol w="1247760"/>
                <a:gridCol w="4368960"/>
                <a:gridCol w="280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тег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нные по Оренбургской области (млн. г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льскохозяйственного назна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населенных пун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промышленности, транспорта, связи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обо охраняемые террито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сно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ны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запа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земельны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исание зданий и соору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ребительские свойства земельных уча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иды лесов и многолетних насажд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особленные водные объек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ки не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 уровню хозяйственной освоенности участки могут быть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застроенными, предназначенными под строитель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строенн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объектами незавершенного строитель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ветхими застройками (под снос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объектами подлежащими вывод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обод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иды лесов и многолетних насажд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Функции ле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логическая (климаторегулирующая, почвозащитная, водоохранная, санитарно-гигиеническа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номическая (источник древесины и множества видов потребительской продукци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циальная (оздоровительная, улучшает условия жизни люде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остав лес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8507520" cy="4965840"/>
        </p:xfrm>
        <a:graphic>
          <a:graphicData uri="http://schemas.openxmlformats.org/drawingml/2006/table">
            <a:tbl>
              <a:tblPr/>
              <a:tblGrid>
                <a:gridCol w="2127240"/>
                <a:gridCol w="2125800"/>
                <a:gridCol w="2127240"/>
                <a:gridCol w="212724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лесного фон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входящие в лесной фон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евесно-кустарниковая растительность на земля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ле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ые лес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ля нужд лесного хозя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са на землях Министерства обор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ельскохозяйст-венного назна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д болот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нспорта (на полосах отвода доро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крытые, но предназначен- ные для его восстано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д каменистыми россыпя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одские ле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дного фонда (на полосах отвода канало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руг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ачные учас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Классификация лесов по категории защищенности земель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1600200"/>
          <a:ext cx="8362800" cy="4843440"/>
        </p:xfrm>
        <a:graphic>
          <a:graphicData uri="http://schemas.openxmlformats.org/drawingml/2006/table">
            <a:tbl>
              <a:tblPr/>
              <a:tblGrid>
                <a:gridCol w="2090520"/>
                <a:gridCol w="2163960"/>
                <a:gridCol w="2270160"/>
                <a:gridCol w="1838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атегории защище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охранные, защитные, санитарно-гигиенические, оздоровительные, особоохраняем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охранные, оздоровительные, санитарно-гигиенические, ограниченно эксплуатацио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плуатационные при сохранении экологичес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то располо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претные и защитные полосы, леса пустынь, поселений, куро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регионах с высокой плотностью населения или недостаточными лесными ресурс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много лесных регион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е допускаетс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упля – продажа, залог и совершение других сделок, которые могут повлечь отчуждение  участков лесного фон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Лесной фонд является федеральной собственностью. Допускается передача части фондов в собственность субъектов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знаки классификации многолетних насажд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иду продукции (плодово-ягодные; техническ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функциональному назначению (живые изгороди;  полезащитные; декоративно-озеленительны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озрасту вступления в товарное использ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сроку эксплуатации (плодово-ягодные 10-30 лет; технические 10-50 лет; озеленительные 50-100 л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летние насаждения могут быть в собственности граждан без ограничения сделок (купля – продажа, залог, аренда, траст, дарение, наследовани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особленные водные объек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бособленные водные объек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это небольшие по площади и непроточные искусственные водоемы, не имеющие гидравлической связи с другими поверхностными водными объек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тношения регулируются Водным Кодексом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Возможные цели использов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питьевого и хозяйственно-бытового водоснабж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здравоо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сельского и лесного хозяй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оспла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гидроэнергетики и пожарной безопас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рыбного и охотничьего хозяй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добычи полезных ископаемых, торфа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писание зданий и сооружен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жимы водопольз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е водопольз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альное водопользование (с применением технических средств, устройств и сооружений при наличии лицензии, за исключением плавания на маломерных суда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Участки нед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едра -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ь земной коры, расположенная ниже почвенного слоя, а при его отсутствии – ниже земной поверхности и дна водоемов, простирающейся до глубин, доступных для геологического изучения и осво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Участки недр являются государственным недвижимым имуществом. Права пользования недрами могут передаваться субъектам предпринимательск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Государственный кадастр месторождений и проявлений полезных ископаемых содержит следующие сведения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основных и совместно залегающих полезных ископае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содержащихся в них компонен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горно-технических и иных условиях разрабо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геолого-экономической оценке месторожд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выявленных проявлениях полезных ископае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лицензиях на пользование недр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работах по геологическому изучению не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Государственный баланс запасов полезных ископаемых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назначен для учета минерально-сырьевой базы и содержит свед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количестве, качестве и степени изученности запасов каждого вида полезных ископаемых по месторождениям, имеющим промышленное назна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их размещении и степени промышленного осво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обеспеченности промышленности разведанными полезными ископаем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чественная и количественная информация о собственн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7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изические характеристик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мущественно-правовое описа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кономические показател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стояние внешней сред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Местоположение объекта (Кадастровый номер здания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88628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 федер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административного округа (г. Оренбург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массива кадастрового кварта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земельного участка в квартал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первичного объекта на участ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вторичного объекта, как составная часть первично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Физические характеристики здания, сооруж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имен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ощадь, объем, высо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териал стен, крыши, перекрыт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я построй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ень дефектов по видам и размеру (дефектная ведомость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спертная оценка стоимости объекта и его отдельных эле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Эксплуатационные качеств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структивная надежность и и физическая долговеч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ункциональное соответств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рхитектурно-планировочное соответствие назнач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кономичность строительства и эксплуа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ргономические показател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опасность эксплуат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мущественно правовое описа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О СОБСТВЕННОСТИ (ВЛАДЕНИЕ, ПОЛЬЗОВАНИЕ, РАСПОРЯЖЕНИЕ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ЩНЫЕ ПРАВ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ГРАНИЧЕНИЯ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ГРАНИЧЕ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ервитуты – ограниченное вещное право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потека – залог недвижимост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ренда и доверительное управление – договорные обязатель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8:38:10Z</dcterms:created>
  <dc:creator>Джораев В.О.</dc:creator>
  <dc:description/>
  <dc:language>en-US</dc:language>
  <cp:lastModifiedBy>Джораев В.О.</cp:lastModifiedBy>
  <dcterms:modified xsi:type="dcterms:W3CDTF">2007-03-21T15:31:13Z</dcterms:modified>
  <cp:revision>6</cp:revision>
  <dc:subject/>
  <dc:title>Тема 2</dc:title>
</cp:coreProperties>
</file>